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6.jpeg" ContentType="image/jpeg"/>
  <Override PartName="/ppt/media/image27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957-1A22-449F-9CDD-EF578397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50A-5BFE-4BBF-95A5-60EA495E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CE9-CD08-4536-81CB-93702BAE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052-6DB7-43BA-AFDD-C40FD1F2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26B6-0ED9-460A-BB92-A44EA66E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1F94-2FB5-4EA2-B561-A38B6140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1BB9-BA61-44B6-833F-D2BFACE2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5E2D-C16B-4D93-9639-B0985918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0C2A-AB26-483E-8343-9D2EF0EE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FDDD-7766-455A-B12D-D1A23311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A2F7-AF29-46E5-8BE7-F4C2DF17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EF5-E08E-4C3D-AA33-857A4D4C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1515-4AAD-4EB8-AF90-5DC8D63E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D799-943D-4A80-B465-2C7307AD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C902-FDA3-4F5D-8C51-E1CDA062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1D2C-D131-43E0-8DB9-545C97DD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125B-3599-4F6B-93CC-BEE2EB75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57F-832C-4008-AD43-462DC7F4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37E-D3DD-4ACC-9253-AFEA6357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697-A821-4B4A-B9B3-5211A505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27C-0CDA-4F66-BA9C-C5E7996D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F1F-3952-4693-8783-FFDDB7F0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7FB-A61E-4CE8-BF2F-1DB735A1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8A3-0348-4465-A1B5-A8336FB4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E21C-A166-45B4-8292-56632127596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2718-F3C9-4FFF-BE5D-FC51D36FAE2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103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cabulary Wo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Ian 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Greek City-Stat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Picture 5" descr="http://t1.gstatic.com/images?q=tbn:ANd9GcT3-tmxDrwguqaPSYhdSFkrHURfz5GcjRbxeddJEBW2LtAAaBma"/>
          <p:cNvPicPr/>
          <p:nvPr/>
        </p:nvPicPr>
        <p:blipFill>
          <a:blip r:embed="rId2"/>
          <a:stretch/>
        </p:blipFill>
        <p:spPr>
          <a:xfrm>
            <a:off x="2286000" y="2633760"/>
            <a:ext cx="45720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99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study of Wisdom and the right way to liv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63360" y="-8762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63360" y="-8524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63360" y="-8524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63360" y="-8762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63360" y="-8524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63360" y="-8524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63360" y="-85248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63360" y="-876240"/>
            <a:ext cx="2495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1" descr="http://t2.gstatic.com/images?q=tbn:ANd9GcRY6JxGqPTTGFrIdvGYZpglhS3uQMkahAKsk1eFdoyHbyGbYtE6"/>
          <p:cNvPicPr/>
          <p:nvPr/>
        </p:nvPicPr>
        <p:blipFill>
          <a:blip r:embed="rId2"/>
          <a:stretch/>
        </p:blipFill>
        <p:spPr>
          <a:xfrm>
            <a:off x="2590920" y="2786040"/>
            <a:ext cx="35812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area of land nearly surrounded by water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Picture 5" descr="http://t3.gstatic.com/images?q=tbn:ANd9GcTJM-9-emOA-0wz8JM1jzIHTx8fqgNgzBYKvTLINzpcw_4cE9Rq"/>
          <p:cNvPicPr/>
          <p:nvPr/>
        </p:nvPicPr>
        <p:blipFill>
          <a:blip r:embed="rId2"/>
          <a:stretch/>
        </p:blipFill>
        <p:spPr>
          <a:xfrm>
            <a:off x="2209680" y="2500200"/>
            <a:ext cx="4419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http://t2.gstatic.com/images?q=tbn:ANd9GcQQKhY5D_h5cdMqIBFQEChKiLWl604eWmQaK-eLN6NoXiQ8-D3R"/>
          <p:cNvPicPr/>
          <p:nvPr/>
        </p:nvPicPr>
        <p:blipFill>
          <a:blip r:embed="rId2"/>
          <a:stretch/>
        </p:blipFill>
        <p:spPr>
          <a:xfrm>
            <a:off x="1649520" y="3106800"/>
            <a:ext cx="4427280" cy="222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205740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r Between Athens and Spar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kind of Government that is run by a small group of peopl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Picture 5" descr="http://t3.gstatic.com/images?q=tbn:ANd9GcRBU0KbgNTMGeynISfTnTF54SOZnVwWF0BhSmplVc2QzI8YBBDj9w"/>
          <p:cNvPicPr/>
          <p:nvPr/>
        </p:nvPicPr>
        <p:blipFill>
          <a:blip r:embed="rId2"/>
          <a:stretch/>
        </p:blipFill>
        <p:spPr>
          <a:xfrm>
            <a:off x="2743200" y="3679920"/>
            <a:ext cx="24382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sheltered place along a coastlin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Picture 5" descr="http://t1.gstatic.com/images?q=tbn:ANd9GcRhSbQOyLwCVOsVMEWhsvGr_8Q_ILzpI4IpcQzalLHkKuye1gnc"/>
          <p:cNvPicPr/>
          <p:nvPr/>
        </p:nvPicPr>
        <p:blipFill>
          <a:blip r:embed="rId2"/>
          <a:stretch/>
        </p:blipFill>
        <p:spPr>
          <a:xfrm>
            <a:off x="1415880" y="3733920"/>
            <a:ext cx="4461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2511360" y="-55440"/>
            <a:ext cx="3743280" cy="976320"/>
          </a:xfrm>
          <a:prstGeom prst="rect">
            <a:avLst/>
          </a:prstGeom>
          <a:ln w="0">
            <a:noFill/>
          </a:ln>
        </p:spPr>
      </p:pic>
      <p:sp>
        <p:nvSpPr>
          <p:cNvPr id="85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A large hill which the Greeks built their city-states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http://t0.gstatic.com/images?q=tbn:ANd9GcTJPWd1B5sunt_dJ5FaxRkQgTztnswgvHF_kjlbMP6llSTfJiFa"/>
          <p:cNvPicPr/>
          <p:nvPr/>
        </p:nvPicPr>
        <p:blipFill>
          <a:blip r:embed="rId2"/>
          <a:stretch/>
        </p:blipFill>
        <p:spPr>
          <a:xfrm>
            <a:off x="1676520" y="2362320"/>
            <a:ext cx="5948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2511360" y="-55440"/>
            <a:ext cx="3743280" cy="976320"/>
          </a:xfrm>
          <a:prstGeom prst="rect">
            <a:avLst/>
          </a:prstGeom>
          <a:ln w="0">
            <a:noFill/>
          </a:ln>
        </p:spPr>
      </p:pic>
      <p:sp>
        <p:nvSpPr>
          <p:cNvPr id="8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"/>
              </a:rPr>
              <a:t>A place where Greeks meet and conduct busi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6" descr="http://t1.gstatic.com/images?q=tbn:ANd9GcQVzz9AntUKHBf29VKnzrW93ScRQsdrooG7ZTXvf1uQO65CE4BJXw"/>
          <p:cNvPicPr/>
          <p:nvPr/>
        </p:nvPicPr>
        <p:blipFill>
          <a:blip r:embed="rId2"/>
          <a:stretch/>
        </p:blipFill>
        <p:spPr>
          <a:xfrm>
            <a:off x="1854360" y="2666880"/>
            <a:ext cx="53845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752480" y="12193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awmaking Place where people voted on issues that helped their c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http://t0.gstatic.com/images?q=tbn:ANd9GcQ0b79Zo97uhXsjzXm8P2_gKAK-MHYRk-hL9WfiFPrlQ0ItfQeo6A"/>
          <p:cNvPicPr/>
          <p:nvPr/>
        </p:nvPicPr>
        <p:blipFill>
          <a:blip r:embed="rId2"/>
          <a:stretch/>
        </p:blipFill>
        <p:spPr>
          <a:xfrm>
            <a:off x="2209680" y="2028960"/>
            <a:ext cx="42674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person who has certain rights and resoinsiblilites to his or her countr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2" descr="http://t0.gstatic.com/images?q=tbn:ANd9GcTNK2wOqvWrXj6OFPJrnehfQmjT-8XYLVV1SxTE_enG7y_rmPyr_A"/>
          <p:cNvPicPr/>
          <p:nvPr/>
        </p:nvPicPr>
        <p:blipFill>
          <a:blip r:embed="rId2"/>
          <a:stretch/>
        </p:blipFill>
        <p:spPr>
          <a:xfrm>
            <a:off x="1905120" y="2727360"/>
            <a:ext cx="52959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group of people who lived apart from Greece but kept economic ties with 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http://t1.gstatic.com/images?q=tbn:ANd9GcStNX75n0k9yaCIH6nb0J16xtcEAFgwuj4HcGnZqzMhEfWdLDQj"/>
          <p:cNvPicPr/>
          <p:nvPr/>
        </p:nvPicPr>
        <p:blipFill>
          <a:blip r:embed="rId2"/>
          <a:stretch/>
        </p:blipFill>
        <p:spPr>
          <a:xfrm>
            <a:off x="1884240" y="3276720"/>
            <a:ext cx="5399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form of Government where people vote the make decis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63360" y="-8557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3360" y="-8557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63360" y="-8557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Im the biggest democrocy ever.bmp"/>
          <p:cNvPicPr/>
          <p:nvPr/>
        </p:nvPicPr>
        <p:blipFill>
          <a:blip r:embed="rId2"/>
          <a:stretch/>
        </p:blipFill>
        <p:spPr>
          <a:xfrm>
            <a:off x="1676520" y="2660760"/>
            <a:ext cx="5867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y hear the evidence and make decisions in a court of law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http://t1.gstatic.com/images?q=tbn:ANd9GcQ8jHBeGWbM-4vDjmGNZjXVfqqwOmekJRCdknf5Nh7eG4BFcLwyHw"/>
          <p:cNvPicPr/>
          <p:nvPr/>
        </p:nvPicPr>
        <p:blipFill>
          <a:blip r:embed="rId2"/>
          <a:stretch/>
        </p:blipFill>
        <p:spPr>
          <a:xfrm>
            <a:off x="1600200" y="2590920"/>
            <a:ext cx="61722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overnment headed by one rul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3772080" y="3244680"/>
            <a:ext cx="16002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http://t2.gstatic.com/images?q=tbn:ANd9GcSBfsT_-4lASHs9sSLvbJD3n2_D4IcNnJBdlcGrr1DvIl6n2YZm"/>
          <p:cNvPicPr/>
          <p:nvPr/>
        </p:nvPicPr>
        <p:blipFill>
          <a:blip r:embed="rId2"/>
          <a:stretch/>
        </p:blipFill>
        <p:spPr>
          <a:xfrm>
            <a:off x="1981080" y="2500200"/>
            <a:ext cx="41148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5:07Z</dcterms:modified>
  <cp:revision>99</cp:revision>
  <dc:subject/>
  <dc:title>Ancient Greece</dc:title>
</cp:coreProperties>
</file>